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WRF &amp; HWRF-X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4800" y="274320"/>
            <a:ext cx="48974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grades (work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19720" y="914040"/>
            <a:ext cx="441936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MM Upgrade to WRFV3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g fixes (radiation, land surface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art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ean Coupling to POM or HY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-way coupling to Wave Watch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grades to vortex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vity Wave 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AH L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a Spray Parame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228600" y="914400"/>
            <a:ext cx="4189320" cy="5616360"/>
            <a:chOff x="228600" y="914400"/>
            <a:chExt cx="4189320" cy="5616360"/>
          </a:xfrm>
        </p:grpSpPr>
        <p:sp>
          <p:nvSpPr>
            <p:cNvPr id="51" name="AutoShape 4"/>
            <p:cNvSpPr/>
            <p:nvPr/>
          </p:nvSpPr>
          <p:spPr>
            <a:xfrm>
              <a:off x="228600" y="914400"/>
              <a:ext cx="4189320" cy="5484960"/>
            </a:xfrm>
            <a:custGeom>
              <a:avLst/>
              <a:gdLst>
                <a:gd name="textAreaLeft" fmla="*/ 360 w 4189320"/>
                <a:gd name="textAreaRight" fmla="*/ 4188960 w 4189320"/>
                <a:gd name="textAreaTop" fmla="*/ 360 h 5484960"/>
                <a:gd name="textAreaBottom" fmla="*/ 5484600 h 5484960"/>
              </a:gdLst>
              <a:ahLst/>
              <a:rect l="textAreaLeft" t="textAreaTop" r="textAreaRight" b="textAreaBottom"/>
              <a:pathLst>
                <a:path w="21600" h="28280">
                  <a:moveTo>
                    <a:pt x="8" y="0"/>
                  </a:moveTo>
                  <a:arcTo wR="8" hR="8" stAng="16200000" swAng="-5400000"/>
                  <a:lnTo>
                    <a:pt x="0" y="28272"/>
                  </a:lnTo>
                  <a:arcTo wR="8" hR="8" stAng="10800000" swAng="-5400000"/>
                  <a:lnTo>
                    <a:pt x="21592" y="28280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228600" y="914400"/>
              <a:ext cx="4189320" cy="56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RFV2.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perational version at 27:0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it reproduci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cean coupling (POM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ortex relocation and Initializ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SI/3DV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errier Microphys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FS PB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FDL SURFACE LAY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FDL sla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"/>
                <a:tabLst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AS Convection Sche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1080" indent="-181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81080"/>
                  <a:tab algn="l" pos="638280"/>
                  <a:tab algn="l" pos="1095480"/>
                  <a:tab algn="l" pos="1552680"/>
                  <a:tab algn="l" pos="2009880"/>
                  <a:tab algn="l" pos="2467080"/>
                  <a:tab algn="l" pos="2924280"/>
                  <a:tab algn="l" pos="3381480"/>
                  <a:tab algn="l" pos="3838680"/>
                  <a:tab algn="l" pos="4295880"/>
                  <a:tab algn="l" pos="4753080"/>
                  <a:tab algn="l" pos="5210280"/>
                  <a:tab algn="l" pos="5667480"/>
                  <a:tab algn="l" pos="6124680"/>
                  <a:tab algn="l" pos="6581880"/>
                  <a:tab algn="l" pos="7039080"/>
                  <a:tab algn="l" pos="7496280"/>
                  <a:tab algn="l" pos="7953480"/>
                  <a:tab algn="l" pos="8410680"/>
                  <a:tab algn="l" pos="8867880"/>
                  <a:tab algn="l" pos="932508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304920" y="310320"/>
            <a:ext cx="4309920" cy="520560"/>
            <a:chOff x="304920" y="310320"/>
            <a:chExt cx="4309920" cy="520560"/>
          </a:xfrm>
        </p:grpSpPr>
        <p:sp>
          <p:nvSpPr>
            <p:cNvPr id="54" name="AutoShape 7"/>
            <p:cNvSpPr/>
            <p:nvPr/>
          </p:nvSpPr>
          <p:spPr>
            <a:xfrm>
              <a:off x="304920" y="380520"/>
              <a:ext cx="4309920" cy="37980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304920" y="310320"/>
              <a:ext cx="430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Operational HWRF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posed Upgrades/Changes to the operational HWRF System FY 2009 (H2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2249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Gravity Wave Drag Parame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Modified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ug fix for Land Surfac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ug fix for solar rad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Bug fix for non-hydrostatic advection of vertical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2FY09 GSI/GFS for initial and 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art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fied scripting with advanced options for high-resolution, 3-way coupling with POM, HYCOM, Wave Watch III; genesis mod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04600" y="6284880"/>
            <a:ext cx="2175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Withdrawn for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WRF Intensity Imp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4486320" cy="3471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81760" cy="323532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 flipH="1" flipV="1">
            <a:off x="7237440" y="4875120"/>
            <a:ext cx="2318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777000" y="5257800"/>
            <a:ext cx="1780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Ops 2008 HW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28680" y="3581280"/>
            <a:ext cx="1780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Ops 2008 HW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2589120" y="2436840"/>
            <a:ext cx="23184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115640" y="4608360"/>
            <a:ext cx="123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y, Han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300360" y="2743200"/>
            <a:ext cx="1236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ustav, Ik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 flipH="1">
            <a:off x="3427200" y="1752480"/>
            <a:ext cx="1222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861440" y="1484280"/>
            <a:ext cx="202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HWRF 2009 te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410080" y="1905120"/>
            <a:ext cx="121932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816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HWRF Code Management for HF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rational HWRF system with the upgrades FY 2009 will be made available to H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009 Hurricane Season: High Resolution HWRF-X will make use of operational HWRF initial and boundary conditions (Operational HWRF grib files at 0.25 deg. resolu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rdinated efforts for R2O and O2R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02:09Z</dcterms:created>
  <dc:creator/>
  <dc:description/>
  <dc:language>en-US</dc:language>
  <cp:lastModifiedBy>Frank Marks</cp:lastModifiedBy>
  <dcterms:modified xsi:type="dcterms:W3CDTF">2009-05-26T15:07:48Z</dcterms:modified>
  <cp:revision>2</cp:revision>
  <dc:subject/>
  <dc:title>PowerPoint Presentation</dc:title>
</cp:coreProperties>
</file>